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01F3-3CBC-4960-96A6-5E64A01E08C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6BD1-CAAB-4374-A565-3A7089B6626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503-C1FB-44F5-841F-ABDEA33CF9D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F64D-664A-47AB-BA0F-6E1EF9D84EB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93E3-A8BC-45DA-A51D-C9F2122FDF8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AC0-DBB8-45D9-BD5B-5DE61B879C4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74C-EE01-4062-B95C-7125C97F42C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CC9-53AE-45CE-8A5A-9CA04F404A9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239-6D86-4916-9EB7-651CE182534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2A55-5A76-4FD9-B8E2-06D872F473B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BE4-DC85-4E3B-98F2-93765F0B589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A8BC-B2AB-4EFC-8436-3072CDE31E8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06E7-1377-4DBF-BD5A-69C93E33038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A0F-FA1B-44D1-8118-8CAA72455A8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0D0-147E-484F-BE0F-875686173D8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5C3-6448-421E-B4E1-9C63443AC41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512F-7442-493B-AE4D-070EA23C2DB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C107-C625-4270-85E0-C06FE9A4148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71E-8B56-4560-9B54-F275A6FBAB5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734-895D-42C3-A0D7-464F420270E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BD1A-8F18-43C7-AD4D-4E4F24070E1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6747-AB4A-49CB-B2DE-B909B8025A6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A71-8825-439F-AACA-E746AD34BE3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BD82-1375-4291-B6B0-534490E5257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002-D402-4256-9A88-DACC3F9426C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A31-7D66-434F-A266-7A5DE85CB58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E420-2C44-4FB5-8D4E-27A72C5ED3E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BBFD-71CC-41B1-9F15-ABD83E13193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C609-4D87-4EB1-8C6D-CFA9BC90AB7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4D80-268C-4F7F-BBEA-0355D036140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A6C5-0A74-4F78-947F-5996080BE0B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6BE1-E418-4A52-B9E5-40479079EFB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A280-18E7-46E6-9793-94CC41C3479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D82A-175E-4AA8-9286-93764119BC5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FDA-4D16-4463-85B3-43D201D0E98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2C6-CB2E-454D-9F4F-8749246CB73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4436-6DE9-4B31-B1FC-962FD51A488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7C82-4CEB-41CC-BC02-4B9D1A1884B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3C5-FD97-430D-A6F9-37FF30B2E9B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56E-6876-498D-97ED-E60D67F2BFE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61D0-C611-44B7-9D0D-DABBAB18ED0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A90-F012-4D57-AAE9-D28DF1A7B73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6B7-312A-4644-A8BD-467B72D18D3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D911-16E3-4C69-8E72-1EA77413FC7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663C-B56F-4DBE-AD00-EC464806EC2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671-3D5E-4AD0-A244-BE1FFBF025F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DF99-3BE8-42E5-937C-405466C784B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CF81-F68C-4DCC-B467-B4FA3356347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110-9B32-46BC-AE33-3601CE8ECBC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FFF-5549-482D-A0BE-CA2BA4CF0F5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C948-E2DE-4D1C-B5FB-CACFDDC6033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630E-4ECB-48C6-8D4D-1904C3C9D4A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AE8D-20B7-438A-9635-59B5E339B45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232A-2DCF-42E9-BF22-FC936CDA886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1D18-6C26-4BFE-AD46-EA0E3308293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6AE-E2AD-4E57-9ACC-1CDB79DBD8D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20D1-A646-42D5-B492-3941A2E7A01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40E-E712-4234-97C4-0E530E782FF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2977-F05E-4AF3-832E-CC09036613C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472-1BF3-47EA-A812-0F0CF829577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586-FBD7-4D39-ABEC-3D5B26659CA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00D-F3FA-4690-A19F-9284570560E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39E-D733-461B-962E-524FB9D9C47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F6EC-C52F-4DB9-A097-29864892210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34B-7E04-45B6-9DC6-54D49BAA315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907F-8C48-46D9-8DB5-078DD5605AA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0809-4CA6-4FE1-96B4-7506FA604B8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90E-D8ED-455C-A387-62A92272BEA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CAA-7958-4D04-BDD7-4398D27BD0D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17E2-79E5-4056-9750-DF6AF3F3BC4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E905-14DD-47EE-8CEE-30406854B40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3F1-CF9A-46BC-8548-ABFFEE72A42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F54-DD7F-4E7D-BA27-429B39F6C66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B1E-F5D6-45B0-A163-6B1088108D7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A6C-427B-4C61-9909-EF75C9CF6B8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E638-1DA3-448D-982E-05C96EC4CB4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B72-B23C-4900-8355-E895AAAD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79F-BD6E-4921-8C45-2B56C429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320-32E9-44B4-844C-6659E095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E30-3B39-4179-B96F-86C26A99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6369-1978-4A9F-9A53-16540399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C41C-BA90-4145-951E-8EC85F5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AA21-D6E9-447B-AA49-CCB3EF24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A39F-87B3-461B-954B-0C79C662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28B3-E002-4E3B-9A28-117B7B8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C13E-1699-4702-9E27-D4DDA4A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2C5A-65F8-4284-A9AA-966316B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5D6-0DD0-4C2F-B7A1-60F519B1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34BE-0CB4-41DE-B0AD-365A9FA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C8F4-12A2-4D36-8119-B594333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707D-850D-4BC5-8F92-0ED30F50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E75D-7088-49A8-8B7B-7D04F3AF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5858-2FC7-4C71-8370-8AA35B15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CF9-FCE4-40D7-925D-A53D0B16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5BA-ABDF-48FF-9EEB-DF7F9D01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127-4C0D-410E-A1D8-D85CB3D2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2B7-A0C0-4B26-BEFA-B4CF8A0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51D-CA6B-4C08-BF85-6C5465C5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E92-BDFC-40D7-898A-7D3D6869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914-0F30-4EAC-A30E-4DE67A3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B8D1-7BEF-41A0-8D69-43717EA6426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0052F60-9995-40B6-8542-43B95A989B0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5AD2-B1AE-4014-8A56-00491AEA46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aettenschweiler"/>
              </a:rPr>
              <a:t>CHAPTER  six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79A-2F99-4D37-AD9E-D647371F3A33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3973BA24-5564-43E7-BFB3-D98C23E6A651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8592-0AF1-47DF-A20B-BCC283344F7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899-0687-4677-8094-A5DB96F4EA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196B3-0CA4-406A-8138-AC550C460497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7339"/>
          <a:stretch/>
        </p:blipFill>
        <p:spPr>
          <a:xfrm>
            <a:off x="1258920" y="2637000"/>
            <a:ext cx="6119640" cy="314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1268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列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1, 1, 1, 1, 2, 3,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非同构的无向树，如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例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A9C-332D-45A9-8A85-60C6A467D8D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C113D-0870-4C0B-86E9-7B1A2D4FE84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246320" y="3762720"/>
            <a:ext cx="3225600" cy="459720"/>
            <a:chOff x="1246320" y="3762720"/>
            <a:chExt cx="3225600" cy="459720"/>
          </a:xfrm>
        </p:grpSpPr>
        <p:sp>
          <p:nvSpPr>
            <p:cNvPr id="144" name=""/>
            <p:cNvSpPr/>
            <p:nvPr/>
          </p:nvSpPr>
          <p:spPr>
            <a:xfrm>
              <a:off x="3681720" y="37627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不一定连通，也不一定不含回路，如图所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246320" y="3765600"/>
                  <a:ext cx="2952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T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"/>
          <p:cNvGrpSpPr/>
          <p:nvPr/>
        </p:nvGrpSpPr>
        <p:grpSpPr>
          <a:xfrm>
            <a:off x="395280" y="1140840"/>
            <a:ext cx="8055000" cy="2506680"/>
            <a:chOff x="395280" y="1140840"/>
            <a:chExt cx="8055000" cy="2506680"/>
          </a:xfrm>
        </p:grpSpPr>
        <p:sp>
          <p:nvSpPr>
            <p:cNvPr id="147" name=""/>
            <p:cNvSpPr/>
            <p:nvPr/>
          </p:nvSpPr>
          <p:spPr>
            <a:xfrm>
              <a:off x="395280" y="1140840"/>
              <a:ext cx="8055000" cy="25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22860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定义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16.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无向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2860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树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子图并且是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2860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生成树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生成子图并且是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2860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3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生成树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树枝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的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2860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4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生成树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——不在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的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2860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5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生成树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余树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全体弦组成的集合的导出子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3265560" y="3173400"/>
                  <a:ext cx="2937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T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6.2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生成树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14397" r="0" b="30478"/>
          <a:stretch/>
        </p:blipFill>
        <p:spPr>
          <a:xfrm>
            <a:off x="2050920" y="4213080"/>
            <a:ext cx="446580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1FB-9CCE-49D5-A0BC-A477ECDC57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72408-55D9-404E-81B0-B3200A7B9D74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68360" y="3703680"/>
            <a:ext cx="7775640" cy="472320"/>
            <a:chOff x="468360" y="3703680"/>
            <a:chExt cx="7775640" cy="472320"/>
          </a:xfrm>
        </p:grpSpPr>
        <p:sp>
          <p:nvSpPr>
            <p:cNvPr id="152" name=""/>
            <p:cNvSpPr/>
            <p:nvPr/>
          </p:nvSpPr>
          <p:spPr>
            <a:xfrm>
              <a:off x="468360" y="3716280"/>
              <a:ext cx="77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推论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边数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1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535040" y="3703680"/>
                  <a:ext cx="33192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T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468360" y="4286880"/>
            <a:ext cx="7920000" cy="1454400"/>
            <a:chOff x="468360" y="4286880"/>
            <a:chExt cx="7920000" cy="1454400"/>
          </a:xfrm>
        </p:grpSpPr>
        <p:sp>
          <p:nvSpPr>
            <p:cNvPr id="155" name=""/>
            <p:cNvSpPr/>
            <p:nvPr/>
          </p:nvSpPr>
          <p:spPr>
            <a:xfrm>
              <a:off x="468360" y="4286880"/>
              <a:ext cx="792000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推论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生成树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余树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任意一个圈，则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与  一定有公共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  否则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的边全在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，这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树矛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901800" y="4803840"/>
                  <a:ext cx="29844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T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387440" y="4425840"/>
                  <a:ext cx="390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T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179280" y="12672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6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向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具有生成树当且仅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连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189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树存在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1417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的无向连通图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700280"/>
            <a:ext cx="806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  必要性显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充分性用破圈法（注意：在圈上删除任何一条边，不破坏连通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5A0-8CDF-43D9-8A31-2980DD92907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FF5E7-9FCE-4BA6-9168-64FE076BEDB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基本回路系统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0908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生成树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任意一条弦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一个只有一条弦其余边均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树枝的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的弦对应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圈也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惟一路径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所求的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068640"/>
            <a:ext cx="8136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的无向连通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棵生成树，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的只含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其余边均为树枝的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应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基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回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基本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基本回路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圈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记作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5516640"/>
            <a:ext cx="813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基本回路的算法：设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先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路径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并上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即得对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基本回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25D-A260-41C2-A5E0-30DAB4F75B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D3F5A-B1D2-407F-9B40-75EC4D260E48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基本割集的存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连通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棵生成树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树枝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存在只含树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余边都是弦的割集，且不同的树枝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的割集也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由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知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桥，因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个连通分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个端点分别属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构造显然可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割集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都是弦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所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然不同的树枝对应的割集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C80-160F-49E1-92DB-4C6F466D4E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C933C-EDC4-4622-A059-F5447EB822F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280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连通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棵生成树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树枝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只含树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割集，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生成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树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基本割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基本割集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集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记作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基本割集与基本割集系统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772080"/>
            <a:ext cx="820728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基本割集的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生成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树枝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两棵小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个端点分别属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的基本割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9A0-8AFF-46A2-84A4-9D2974D3B0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C48EC-4712-49E7-BCEA-A02B8CB8396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6560" y="4247640"/>
            <a:ext cx="8137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的基本回路分别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的基本割集分别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12160" y="1127160"/>
            <a:ext cx="56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线边所示为生成树，求基本回路系统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割集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6011" r="0" b="26210"/>
          <a:stretch/>
        </p:blipFill>
        <p:spPr>
          <a:xfrm>
            <a:off x="2411280" y="1628640"/>
            <a:ext cx="3600720" cy="2441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实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C84-193B-401D-9D3A-15E17917AA5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48D80-8210-4195-8B6C-9BCC48E7475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最小生成树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生成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边权之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小生成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所有生成树中权最小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3068640"/>
            <a:ext cx="813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最小生成树的一个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避圈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rusk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非环边按权从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大排序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构成回路，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否则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到得到生成树为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46F-5E07-449E-AC13-8DF3EC3E37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B7A04-5943-4756-B00F-74863DB30876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268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图的一棵最小生成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86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求最小生成树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所示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16361"/>
          <a:stretch/>
        </p:blipFill>
        <p:spPr>
          <a:xfrm>
            <a:off x="1116000" y="1989000"/>
            <a:ext cx="3313080" cy="270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0" r="0" b="23354"/>
          <a:stretch/>
        </p:blipFill>
        <p:spPr>
          <a:xfrm>
            <a:off x="4788000" y="2021040"/>
            <a:ext cx="3384360" cy="2455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实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AC7-C66C-4064-B52E-C2A0BDB9119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CDFF2-59EB-4DBE-BF2B-0454A4E2040A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6.3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根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树及其应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向树（基图为无向树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根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一个顶点入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余的入度均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树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入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树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入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出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内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入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出度不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分支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树根与内点的总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层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从树根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长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树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层数最大顶点的层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8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平凡根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平凡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986-B769-4639-B3E4-F528C48638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6AF33-4693-449A-AB24-7A2158906520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第十六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树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向树及其性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树及其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AA7-62BB-4BB5-BF7E-F8EA1355FD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AA41A-4B97-44DA-922E-5ADF332FDC78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根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树实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4440" y="1197000"/>
            <a:ext cx="48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树的画法——树根放上方，省去所有有向边上的箭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23104"/>
          <a:stretch/>
        </p:blipFill>
        <p:spPr>
          <a:xfrm>
            <a:off x="755640" y="1844640"/>
            <a:ext cx="777708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2A8-429B-406D-8EAB-87328D7C3B7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259D6-71FF-45B8-8523-0DA271352049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家族树与根子树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非平凡根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祖先与后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亲与儿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兄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根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意一顶点，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其后代的导出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为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根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根子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1E8-A818-4057-8F72-C4FDB2D2B5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8097F-D00E-42D2-B905-955D1B1F7E6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4600" y="1305000"/>
          <a:ext cx="12465000" cy="83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305000"/>
                    <a:ext cx="12465000" cy="83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根树的分类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有序根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同层上顶点标定次序的根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①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叉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每个分支点至多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儿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②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叉有序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是有序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③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叉正则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每个分支点恰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儿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④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叉正则有序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⑤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叉完全正则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树叶层数相同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正则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⑥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叉完全正则有序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13C-2F0E-44D5-924D-8C8AEBA40E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3DE04-C843-450E-8BEB-355CA7B9E897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24000" y="1133640"/>
            <a:ext cx="8280360" cy="1736280"/>
            <a:chOff x="324000" y="1133640"/>
            <a:chExt cx="8280360" cy="1736280"/>
          </a:xfrm>
        </p:grpSpPr>
        <p:sp>
          <p:nvSpPr>
            <p:cNvPr id="195" name=""/>
            <p:cNvSpPr/>
            <p:nvPr/>
          </p:nvSpPr>
          <p:spPr>
            <a:xfrm>
              <a:off x="324000" y="1133640"/>
              <a:ext cx="8280360" cy="17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华文中宋"/>
                </a:rPr>
                <a:t>定义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华文中宋"/>
                </a:rPr>
                <a:t>16.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叉树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片树叶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权分别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称                               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权，其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层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所有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片树叶，带权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叉树中，权最小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叉树称为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最优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叉树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1868400" y="1392120"/>
                  <a:ext cx="212724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l</m:t>
                          </m:r>
                        </m:e>
                      </m:nary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最优二叉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3114720"/>
            <a:ext cx="84247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最优树的算法——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Huffman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定实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片树叶，得一个分支点，其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选出两个最小的权，连接它们对应的顶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一定是树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新分支点及所带的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直到形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分支点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为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A0A-FBA1-491A-B9B3-4D118CFC886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10A5A-A943-4681-B8FA-3ADD80D636A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1195560"/>
            <a:ext cx="78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带权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1, 2, 3, 4,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优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题过程由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出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8172360" cy="27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F11-C6C1-4186-B433-34D28B36BA9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FD8A5-330D-4B1E-8FA1-3FF002348734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最佳前缀码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长度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符号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前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前缀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何两个元素互不为前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二元前缀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只出现两个符号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716280"/>
            <a:ext cx="739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产生二元前缀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树产生一个二元前缀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棵正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树产生惟一的前缀码（按左子树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右子树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64E-50A4-4E27-A527-365B94CF33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5CE3D-DCCE-4A7C-AADE-416B06B1C5A7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119556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所示二叉树产生的前缀码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00, 10, 11, 011, 0100, 010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275112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F8A-897C-40F8-91B3-27F9118E5BA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C4DEA-D5E8-4010-B406-095D622F601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Huffman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算法产生最佳前缀码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通信中，八进制数字出现的频率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%         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%         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%         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%           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传输它们的最佳前缀码，并求传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按上述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出现的八进制数字需要多少个二进制数字？若用等长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码字传输需要多少个二进制数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8A2-5E47-47D6-B884-B91DFBE9EE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668EE-1AB4-422C-B4D3-85817C116B28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1052640"/>
            <a:ext cx="8491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八进制数字中各数字出现的个数，即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各频率为权，并将各权由小到大排列，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0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0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0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5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此权产生的最优树如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59280" y="2658960"/>
            <a:ext cx="5400360" cy="3570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求最佳前缀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6560" y="234936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1-----0           11----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1-----2         100----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1-----4       0001----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000-----6     00001----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3949560"/>
            <a:ext cx="29512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2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二进制数字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8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等长码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数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3CA-F0FA-4AF8-980C-73B93EA8E3A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11918-C1DD-4BAF-9C39-64C86594BCBD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波兰符号法与逆波兰符号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13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遍或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周游根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每个顶点访问且仅访问一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有序正则树的周游方式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中序行遍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次序为：左子树、根、右子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前序行遍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次序为：根、左子树、右子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后序行遍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次序为：左子树、右子树、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33097"/>
          <a:stretch/>
        </p:blipFill>
        <p:spPr>
          <a:xfrm>
            <a:off x="5940360" y="3573360"/>
            <a:ext cx="1873440" cy="242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860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图所示根树按中序、前序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序行遍法访问结果分别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2FB-8331-4C29-AE87-594ACB4DA5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29E7F-5543-4AAE-9E44-52459471576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6.1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无向树及其性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921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无向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连通无回路的无向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平凡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平凡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森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至少由两个连通分支（每个都是树）组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树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分支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度数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50631"/>
          <a:stretch/>
        </p:blipFill>
        <p:spPr>
          <a:xfrm>
            <a:off x="2411280" y="4149720"/>
            <a:ext cx="396108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12D-395E-43F4-95D2-6FCD528C88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AACC1-4227-4C4E-A93D-1F3DDE42F4EF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叉有序正则树存放算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876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放规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高层次运算放在树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依次将运算符放在根子树的根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放在树叶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规定：被除数、被减数放在左子树树叶上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373720"/>
            <a:ext cx="7056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放在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树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4008" t="0" r="0" b="24918"/>
          <a:stretch/>
        </p:blipFill>
        <p:spPr>
          <a:xfrm>
            <a:off x="4211640" y="1557360"/>
            <a:ext cx="439272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2C8-0B07-4DF2-85EE-C1BD4EFE3F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1212A-8243-41B3-904D-41C6E926C1A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波兰符号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波兰符号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前序行遍法访问存放算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有序正则树，其结果不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括号，规定每个运算符号与其后面紧邻两个数进行运算，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结果正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此算法为波兰符号法或前缀符号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上图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结果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逆波兰符号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后序行遍法访问，规定每个运算符与前面紧邻两数运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为逆波兰符号法或后缀符号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上图的访问结果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0BC-8184-4148-B455-FC7AF55B49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17297-1159-4928-8386-C70E8A23CF0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第十六章 习题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向树及其性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树、最小生成树、基本回路系统、基本割集系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树及其分类、最优树、最佳前缀码、波兰符号法、逆波兰符号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要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刻理解无向树的定义及性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练地求解无向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准确地求出给定带权连通图的最小生成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刻理解基本回路、基本割集的概念，并会计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解根树及其分类等概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小）非同构的无向树及根树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练掌握求最优树及最佳前缀码的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波兰符号法与逆波兰符号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D76-4670-4523-9051-3C93A50481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0C078-577F-4D86-97A2-BE81983A1332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47640" y="2637000"/>
                <a:ext cx="42181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为树叶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720800" y="3602160"/>
                <a:ext cx="23176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438200" y="4462560"/>
                <a:ext cx="65581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021040" y="5407200"/>
                <a:ext cx="23666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6320" y="385956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6320" y="479628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840" y="5588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从而解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35280" y="18900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197000"/>
            <a:ext cx="82821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向树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, 3, 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余顶点全是树叶，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树叶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133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用树的性质：边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阶数），及握手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FA3-1A0E-47EB-8B42-366A99CBEA4E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4E93F-3BF0-4386-B689-5F51EC6C472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1124280"/>
            <a:ext cx="828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非平凡的无向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至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128320"/>
            <a:ext cx="8280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证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则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至多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下面利用握手定理及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性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出矛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故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776680"/>
            <a:ext cx="37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479600" y="4035600"/>
                <a:ext cx="6038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468360" y="5011560"/>
            <a:ext cx="7993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此解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矛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证本题的方法有多种，请用分支点都是割点来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35280" y="18900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C13-535F-4757-9998-BDF00FBAAAB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4A4AD-F64B-46CC-9E8B-A932010F1D9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95280" y="1267200"/>
            <a:ext cx="8353440" cy="460080"/>
            <a:chOff x="395280" y="1267200"/>
            <a:chExt cx="8353440" cy="460080"/>
          </a:xfrm>
        </p:grpSpPr>
        <p:sp>
          <p:nvSpPr>
            <p:cNvPr id="242" name=""/>
            <p:cNvSpPr/>
            <p:nvPr/>
          </p:nvSpPr>
          <p:spPr>
            <a:xfrm>
              <a:off x="395280" y="1267200"/>
              <a:ext cx="83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阶无向简单图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证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必含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156360" y="1268280"/>
                  <a:ext cx="29196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"/>
          <p:cNvGrpSpPr/>
          <p:nvPr/>
        </p:nvGrpSpPr>
        <p:grpSpPr>
          <a:xfrm>
            <a:off x="468360" y="1976400"/>
            <a:ext cx="7775640" cy="1009800"/>
            <a:chOff x="468360" y="1976400"/>
            <a:chExt cx="7775640" cy="1009800"/>
          </a:xfrm>
        </p:grpSpPr>
        <p:sp>
          <p:nvSpPr>
            <p:cNvPr id="245" name=""/>
            <p:cNvSpPr/>
            <p:nvPr/>
          </p:nvSpPr>
          <p:spPr>
            <a:xfrm>
              <a:off x="468360" y="1983240"/>
              <a:ext cx="77756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本题的方法很多，证明中用：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与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数之和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边数             ，以及树的性质：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133960" y="1976400"/>
                  <a:ext cx="35712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981000" y="2317680"/>
                  <a:ext cx="91764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）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468360" y="2825280"/>
            <a:ext cx="8064360" cy="1759680"/>
            <a:chOff x="468360" y="2825280"/>
            <a:chExt cx="8064360" cy="1759680"/>
          </a:xfrm>
        </p:grpSpPr>
        <p:sp>
          <p:nvSpPr>
            <p:cNvPr id="249" name=""/>
            <p:cNvSpPr/>
            <p:nvPr/>
          </p:nvSpPr>
          <p:spPr>
            <a:xfrm>
              <a:off x="468360" y="2825280"/>
              <a:ext cx="8064360" cy="175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方法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反证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否则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与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各连通分支都是树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   的连通分支分别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别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顶点数和边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于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838320" y="2984400"/>
                  <a:ext cx="35856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7941960" y="2982600"/>
                  <a:ext cx="372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84360" y="4365720"/>
                <a:ext cx="7878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m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24000" y="53722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矛盾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18900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50D-BF68-4C93-BF70-DA4E44F69EB8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1D7BA-A33D-4CCA-B964-8014E8B84C9B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755640" y="1148400"/>
            <a:ext cx="7777080" cy="1922760"/>
            <a:chOff x="755640" y="1148400"/>
            <a:chExt cx="7777080" cy="1922760"/>
          </a:xfrm>
        </p:grpSpPr>
        <p:sp>
          <p:nvSpPr>
            <p:cNvPr id="256" name=""/>
            <p:cNvSpPr/>
            <p:nvPr/>
          </p:nvSpPr>
          <p:spPr>
            <a:xfrm>
              <a:off x="755640" y="1148400"/>
              <a:ext cx="7777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方法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在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与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存在一个，比如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它的边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用反证法证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必含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比方法一简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2916360" y="1265400"/>
                  <a:ext cx="27612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727360" y="1747800"/>
                  <a:ext cx="17114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≥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684360" y="3373560"/>
            <a:ext cx="7848360" cy="2654280"/>
            <a:chOff x="684360" y="3373560"/>
            <a:chExt cx="7848360" cy="2654280"/>
          </a:xfrm>
        </p:grpSpPr>
        <p:sp>
          <p:nvSpPr>
            <p:cNvPr id="260" name=""/>
            <p:cNvSpPr/>
            <p:nvPr/>
          </p:nvSpPr>
          <p:spPr>
            <a:xfrm>
              <a:off x="684360" y="3373560"/>
              <a:ext cx="7848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方法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妨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边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得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再用反证法证明之，更简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2414520" y="3841920"/>
                  <a:ext cx="2084400" cy="98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≥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2" name=""/>
          <p:cNvSpPr/>
          <p:nvPr/>
        </p:nvSpPr>
        <p:spPr>
          <a:xfrm>
            <a:off x="1835280" y="18900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433-520E-46D1-8C70-FFD856E0D350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A84D4-775E-49FC-A2E3-97D089B1FAE6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48680" y="1051560"/>
            <a:ext cx="43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画出基图为图所示无向树的所有非同构的根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18900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2560" y="1700280"/>
            <a:ext cx="6337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根的根树同构，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根，则根树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;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根的根树同构，取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根，则根树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 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根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35400" t="0" r="0" b="0"/>
          <a:stretch/>
        </p:blipFill>
        <p:spPr>
          <a:xfrm>
            <a:off x="7308720" y="1628640"/>
            <a:ext cx="1405080" cy="2664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755640" y="3260880"/>
            <a:ext cx="6264360" cy="2907360"/>
            <a:chOff x="755640" y="3260880"/>
            <a:chExt cx="6264360" cy="290736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rcRect l="73191" t="0" r="0" b="0"/>
            <a:stretch/>
          </p:blipFill>
          <p:spPr>
            <a:xfrm>
              <a:off x="5004000" y="3260880"/>
              <a:ext cx="1873080" cy="24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900360" y="5708520"/>
              <a:ext cx="61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(2)                           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3"/>
            <a:srcRect l="0" t="0" r="72185" b="0"/>
            <a:stretch/>
          </p:blipFill>
          <p:spPr>
            <a:xfrm>
              <a:off x="755640" y="3260880"/>
              <a:ext cx="1943280" cy="24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"/>
            <a:srcRect l="38141" t="0" r="38165" b="0"/>
            <a:stretch/>
          </p:blipFill>
          <p:spPr>
            <a:xfrm>
              <a:off x="3059280" y="3260880"/>
              <a:ext cx="1655640" cy="249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AB7-3C2B-40F0-885B-AC852DA222F0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632BC-050C-435E-8619-590B61285C89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098720" y="911160"/>
            <a:ext cx="66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树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，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阶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169776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法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正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叉树的定义及树的性质直接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分支点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正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叉树定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代入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195640" y="3141720"/>
                <a:ext cx="1077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835280" y="18900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4025880"/>
            <a:ext cx="773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握手定理及树的性质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树根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，所有内点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，当然叶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，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+3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解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D27-6A1B-4C1A-B7FE-60B0FC884FAA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ED8AA-1D05-4DCB-A271-D1DB89FD68D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无向树的等价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的无向图，则下面各命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等价的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意两个顶点之间存在惟一的路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回路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连通的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连通的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何边均为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没有回路，但在任何两个不同的顶点之间加一条新边，在所得图中得到惟一的一个含新边的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D69-55FD-460A-BB72-883614170A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B74D5-0999-4DA6-A947-8C1477B9D03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4005360"/>
            <a:ext cx="7993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需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反证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连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支都是小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矛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证明思路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5960" y="1100160"/>
            <a:ext cx="795816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回路，则回路上任意两点之间的路径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归纳法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对，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也对：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且仅有两个连通分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) .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由归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设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+1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36560" y="5045040"/>
                <a:ext cx="4792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864160" y="693720"/>
            <a:ext cx="2542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键一步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路径不惟一必有回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C06-66D2-4CF4-9B6F-D6E175655F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1F12D-E0F8-4A1D-AFE5-5EE60588F0F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需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每条边都是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此只需证明命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的无向连通图，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”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题的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，由命题可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连通，故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证明思路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1417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6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易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树，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惟一路径，加新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惟一的一个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437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需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通，这是显然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7B8-483C-40C9-BBE7-207C153CA6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579FF-26EE-472E-A6DD-F1800F8BF9F8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763640" y="2387520"/>
                <a:ext cx="52308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39640" y="314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上式解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27040" y="1198440"/>
            <a:ext cx="63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6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非平凡的无向树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至少有两片树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无向树的性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6120" y="1844640"/>
            <a:ext cx="52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，由握手定理及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A79-8329-4904-A805-808C62C31B4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DE48F-9C89-45EA-9A30-E49D053D154B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无向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，其余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是树叶，试求树叶数，并画出满足要求的非同构的无向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060640"/>
            <a:ext cx="83739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解本题用树的性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握手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，于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1+2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3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 = 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+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故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4005360"/>
            <a:ext cx="439272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列应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1, 1, 2, 2,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易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相邻与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均相邻是非同构的，因而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非同构的无向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如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7163"/>
          <a:stretch/>
        </p:blipFill>
        <p:spPr>
          <a:xfrm>
            <a:off x="5292720" y="3860640"/>
            <a:ext cx="31669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A41-9D88-4BDB-BAF5-67A34C5491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6F5D4-892F-472E-A78E-4DDCB6437C45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无向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片树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其余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的度数均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阶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并画出满足要求的所有非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的无向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例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2708280"/>
            <a:ext cx="7561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阶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边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的个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握手定理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 = 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+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+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+4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顶点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8A1-0A87-4C6C-8ECF-1E830AFD96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8861C-4692-494D-AC0C-F461D0D05705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999宝藏网</cp:lastModifiedBy>
  <dcterms:modified xsi:type="dcterms:W3CDTF">2012-05-17T00:56:11Z</dcterms:modified>
  <cp:revision>216</cp:revision>
  <dc:subject>ch1</dc:subject>
  <dc:title>lisan</dc:title>
</cp:coreProperties>
</file>